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pct" ContentType="image/x-pict"/>
  <Override PartName="/ppt/media/image13.jpeg" ContentType="image/jpeg"/>
  <Override PartName="/ppt/media/image15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0.pct" ContentType="image/x-pict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BE7C99-3BB6-4FBC-A997-65AEB52218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807C2D-52B6-4EEA-A169-50DF320526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8AD6E9-0807-4D68-AE10-0B70AD32D8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1B66-5B89-40AB-831A-F12FEB27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2AD-4083-4811-9CED-6C45404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A55-BBA2-487A-B524-39183F5F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D7F-2ECE-4C44-B079-095C44B1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398F-5EB8-49E9-ABAA-57FC58EE7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A6A2-0C50-4ADF-A08C-B32ECDD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9F25-DDEE-45A9-96BE-13F7DA09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9CF1-DC72-4E61-9020-ECA3DC8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744A-F8CE-44FF-A27A-E954CD81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AEF4-4500-44BD-8D58-25C49E5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36A5-8C12-4D8D-A365-800E24BD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E91-5DEF-4146-A248-E9CC1B36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7B3-1216-402A-91C6-3FC620A9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476-9D64-4337-9684-CAD6757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878-2656-45C0-891D-4718DB89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B38C-7B2B-48CB-B7D7-ECD215C4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55C6-D994-41BF-8B90-D7093843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8F49B-3121-4AE4-8090-8A1EA96D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5137-BE77-40D9-B455-4DB12F5B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3F90-6D32-449D-AAA2-974F869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D9710-FB00-49B0-83EC-4336F57B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E9B6-048D-494B-BE93-1E20B7D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E3F-8ECE-4F02-B300-C459435A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DBD3-7E7B-4053-87A9-5E0CC94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B34D-E762-45D4-B29B-3D4DB92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4438-41FC-463A-BBE0-6D2AF4A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DBD7-0DA6-41B9-8008-0C5DF9A6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1182D-FA28-4BD5-847E-240C9AB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284F-4EAA-4D54-A340-490D146E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260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06160" y="188280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77904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260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06160" y="3947760"/>
            <a:ext cx="24411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F703-0B74-45D6-93C9-BB58912B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D5F-EB6A-47EA-8474-A30B754C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A3F-93A9-4F5F-AA45-692F6C1C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107640"/>
            <a:ext cx="7581960" cy="76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FDDB-6C01-4D44-9D89-FB975C0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520-19C9-4E56-91B1-96AA9070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160" y="394776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E59-FA5D-4802-8298-934C8768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160" y="1882800"/>
            <a:ext cx="369972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3947760"/>
            <a:ext cx="7581960" cy="188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150-99A8-4C2C-BAE3-B6E43999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84650-AB75-4467-9389-A1AFE31E9146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D8EDF-8BE4-4409-90E1-9F2B867674D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MoleculeTracer.png"/>
          <p:cNvPicPr/>
          <p:nvPr/>
        </p:nvPicPr>
        <p:blipFill>
          <a:blip r:embed="rId4"/>
          <a:stretch/>
        </p:blipFill>
        <p:spPr>
          <a:xfrm>
            <a:off x="1674720" y="225360"/>
            <a:ext cx="5796000" cy="394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4181D-BEE8-43CC-99A9-6779DFD24533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D5236-820B-45FB-AD22-FF69E81DE9D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GridOverlay.png"/>
          <p:cNvPicPr/>
          <p:nvPr/>
        </p:nvPicPr>
        <p:blipFill>
          <a:blip r:embed="rId3">
            <a:alphaModFix am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78720" indent="-37872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1" marL="757800" indent="-3787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2" marL="1074240" indent="-31608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3" marL="1402560" indent="-32796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4" marL="1719000" indent="-31608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5" marL="1719000" indent="-316080">
              <a:spcBef>
                <a:spcPts val="20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lvl="6" marL="1719000" indent="-316080">
              <a:spcBef>
                <a:spcPts val="20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6517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52A5D8-E76A-4269-98B7-BB0F54CD8D2F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538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0CC97-DB73-455D-9EEA-BB8DA32FF6F8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0800" y="4154400"/>
            <a:ext cx="7542000" cy="101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Candara"/>
              </a:rPr>
              <a:t>The Building Blocks of Sentences</a:t>
            </a:r>
            <a:endParaRPr b="1" lang="en-US" sz="5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20800" y="5230800"/>
            <a:ext cx="7542000" cy="10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6" name="Picture 3" descr="parts of speech.gif"/>
          <p:cNvPicPr/>
          <p:nvPr/>
        </p:nvPicPr>
        <p:blipFill>
          <a:blip r:embed="rId2"/>
          <a:stretch/>
        </p:blipFill>
        <p:spPr>
          <a:xfrm>
            <a:off x="820800" y="4419720"/>
            <a:ext cx="65530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_x0010_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Noun -is the name of a person, place, thing, or idea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John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is Tall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The name John is the name of a perso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buClr>
                <a:srgbClr val="ffffff"/>
              </a:buClr>
              <a:buFont typeface="Candar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onoun- can replace a noun or another pronoun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He, She, They, I, You, We 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39" name="Picture 3" descr="klec2003-c250.gif"/>
          <p:cNvPicPr/>
          <p:nvPr/>
        </p:nvPicPr>
        <p:blipFill>
          <a:blip r:embed="rId2"/>
          <a:stretch/>
        </p:blipFill>
        <p:spPr>
          <a:xfrm>
            <a:off x="7315200" y="2514600"/>
            <a:ext cx="1273320" cy="40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3. Verb -express actions, events, or states of being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Ana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playing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piano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Verb= Playing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200400" y="3581280"/>
            <a:ext cx="48769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4. Adjectives =modifies a noun or a pronoun by describing, identifying, or quantifying word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 : Sally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happy 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on her birthday part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djective: happ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3587760" y="3417840"/>
            <a:ext cx="32702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5. Adverb -can modify a verb, an adjective, another adverb, a phrase, or a clause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The seamstres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quickly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made the mourning cloth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Adverb: quickly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48" name="Picture 3" descr="6149-Elderly-Seamstress-Woman-Sewing-A-Dress-Clipart-Picture.jpg"/>
          <p:cNvPicPr/>
          <p:nvPr/>
        </p:nvPicPr>
        <p:blipFill>
          <a:blip r:embed="rId2"/>
          <a:stretch/>
        </p:blipFill>
        <p:spPr>
          <a:xfrm>
            <a:off x="4038480" y="3359160"/>
            <a:ext cx="33591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6. A preposition links nouns, pronouns and phrases to other words in a sentence.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The book is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on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tabl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reposition: On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1" name="Picture 3" descr="u12273537.jpg"/>
          <p:cNvPicPr/>
          <p:nvPr/>
        </p:nvPicPr>
        <p:blipFill>
          <a:blip r:embed="rId2"/>
          <a:stretch/>
        </p:blipFill>
        <p:spPr>
          <a:xfrm>
            <a:off x="3886200" y="3581280"/>
            <a:ext cx="32767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7. Conjunction-You can use a conjunction to link words, phrases, and clauses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I ate the pizza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and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the pasta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Conjunction: and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4" name="Picture 3" descr="pizza clip art.jpg"/>
          <p:cNvPicPr/>
          <p:nvPr/>
        </p:nvPicPr>
        <p:blipFill>
          <a:blip r:embed="rId2"/>
          <a:stretch/>
        </p:blipFill>
        <p:spPr>
          <a:xfrm>
            <a:off x="4114800" y="3352680"/>
            <a:ext cx="320040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79040" y="107640"/>
            <a:ext cx="758196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andara"/>
              </a:rPr>
              <a:t>The 8 Parts of Speech</a:t>
            </a:r>
            <a:endParaRPr b="1" lang="en-US" sz="5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79040" y="1882800"/>
            <a:ext cx="758196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8. interjection is a word added to a sentence to convey emotion. It is not grammatically related to any other part of the sentence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ample: </a:t>
            </a:r>
            <a:r>
              <a:rPr b="0" i="1" lang="en-US" sz="2400" spc="-1" strike="noStrike">
                <a:solidFill>
                  <a:srgbClr val="ffffff"/>
                </a:solidFill>
                <a:latin typeface="Candara"/>
              </a:rPr>
              <a:t>Oh no</a:t>
            </a: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, I forgot that the exam was today.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Interjection: Oh no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403200" indent="-403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157" name="Picture 3" descr="stress.jpg"/>
          <p:cNvPicPr/>
          <p:nvPr/>
        </p:nvPicPr>
        <p:blipFill>
          <a:blip r:embed="rId2"/>
          <a:stretch/>
        </p:blipFill>
        <p:spPr>
          <a:xfrm>
            <a:off x="4495680" y="3809880"/>
            <a:ext cx="26672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2:45:54Z</dcterms:created>
  <dc:creator>lorelle</dc:creator>
  <dc:description/>
  <dc:language>en-US</dc:language>
  <cp:lastModifiedBy>lorelle</cp:lastModifiedBy>
  <dcterms:modified xsi:type="dcterms:W3CDTF">2010-09-20T03:49:23Z</dcterms:modified>
  <cp:revision>7</cp:revision>
  <dc:subject/>
  <dc:title>The Building Blocks of Sentences</dc:title>
</cp:coreProperties>
</file>